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3480" y="3428640"/>
            <a:ext cx="63691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3480" y="4046040"/>
            <a:ext cx="63691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3480" y="3428640"/>
            <a:ext cx="31078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27240" y="3428640"/>
            <a:ext cx="31078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480" y="4046040"/>
            <a:ext cx="31078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927240" y="4046040"/>
            <a:ext cx="31078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3480" y="3428640"/>
            <a:ext cx="20505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17000" y="3428640"/>
            <a:ext cx="20505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70520" y="3428640"/>
            <a:ext cx="20505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3480" y="4046040"/>
            <a:ext cx="20505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17000" y="4046040"/>
            <a:ext cx="20505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970520" y="4046040"/>
            <a:ext cx="20505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63480" y="3428640"/>
            <a:ext cx="6369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3480" y="3428640"/>
            <a:ext cx="6369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63480" y="3428640"/>
            <a:ext cx="31078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27240" y="3428640"/>
            <a:ext cx="31078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63480" y="1943280"/>
            <a:ext cx="53625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3480" y="3428640"/>
            <a:ext cx="31078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927240" y="3428640"/>
            <a:ext cx="31078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3480" y="4046040"/>
            <a:ext cx="31078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63480" y="3428640"/>
            <a:ext cx="6369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3480" y="3428640"/>
            <a:ext cx="31078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27240" y="3428640"/>
            <a:ext cx="31078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27240" y="4046040"/>
            <a:ext cx="31078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3480" y="3428640"/>
            <a:ext cx="31078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27240" y="3428640"/>
            <a:ext cx="31078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63480" y="4046040"/>
            <a:ext cx="63691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3480" y="3428640"/>
            <a:ext cx="63691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3480" y="4046040"/>
            <a:ext cx="63691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3480" y="3428640"/>
            <a:ext cx="31078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27240" y="3428640"/>
            <a:ext cx="31078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3480" y="4046040"/>
            <a:ext cx="31078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27240" y="4046040"/>
            <a:ext cx="31078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3480" y="3428640"/>
            <a:ext cx="20505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17000" y="3428640"/>
            <a:ext cx="20505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70520" y="3428640"/>
            <a:ext cx="20505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63480" y="4046040"/>
            <a:ext cx="20505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817000" y="4046040"/>
            <a:ext cx="20505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970520" y="4046040"/>
            <a:ext cx="20505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3480" y="3428640"/>
            <a:ext cx="6369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63480" y="3428640"/>
            <a:ext cx="31078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27240" y="3428640"/>
            <a:ext cx="31078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63480" y="1943280"/>
            <a:ext cx="53625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3480" y="3428640"/>
            <a:ext cx="31078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27240" y="3428640"/>
            <a:ext cx="31078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480" y="4046040"/>
            <a:ext cx="31078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3480" y="3428640"/>
            <a:ext cx="31078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27240" y="3428640"/>
            <a:ext cx="31078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27240" y="4046040"/>
            <a:ext cx="31078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3480" y="3428640"/>
            <a:ext cx="31078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27240" y="3428640"/>
            <a:ext cx="31078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3480" y="4046040"/>
            <a:ext cx="63691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496200" cy="1357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6975360" y="152280"/>
            <a:ext cx="1387440" cy="506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 flipH="1">
            <a:off x="663120" y="1654200"/>
            <a:ext cx="84805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32640" y="961920"/>
            <a:ext cx="22302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fld id="{A0DCF43C-D490-43EF-BA00-15C0A14DE303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|06.06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96960" y="1943280"/>
            <a:ext cx="8262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 u="sng">
                <a:solidFill>
                  <a:srgbClr val="666699"/>
                </a:solidFill>
                <a:uFillTx/>
                <a:latin typeface="Verdana"/>
              </a:rPr>
              <a:t>Click to edit the outline text format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lvl="1" marL="625320" indent="-239400"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 u="sng">
                <a:solidFill>
                  <a:srgbClr val="666699"/>
                </a:solidFill>
                <a:uFillTx/>
                <a:latin typeface="Verdana"/>
              </a:rPr>
              <a:t>Second Outline Level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lvl="2" marL="961920" indent="-191880"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 u="sng">
                <a:solidFill>
                  <a:srgbClr val="666699"/>
                </a:solidFill>
                <a:uFillTx/>
                <a:latin typeface="Verdana"/>
              </a:rPr>
              <a:t>Third Outline Level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lvl="3" marL="1346040" indent="-190440"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 u="sng">
                <a:solidFill>
                  <a:srgbClr val="666699"/>
                </a:solidFill>
                <a:uFillTx/>
                <a:latin typeface="Verdana"/>
              </a:rPr>
              <a:t>Fourth Outline Level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lvl="4" marL="1731960" indent="-193680"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 u="sng">
                <a:solidFill>
                  <a:srgbClr val="666699"/>
                </a:solidFill>
                <a:uFillTx/>
                <a:latin typeface="Verdana"/>
              </a:rPr>
              <a:t>Fifth Outline Level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lvl="5" marL="1731960" indent="-193680"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 u="sng">
                <a:solidFill>
                  <a:srgbClr val="666699"/>
                </a:solidFill>
                <a:uFillTx/>
                <a:latin typeface="Verdana"/>
              </a:rPr>
              <a:t>Sixth Outline Level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lvl="6" marL="1731960" indent="-193680"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 u="sng">
                <a:solidFill>
                  <a:srgbClr val="666699"/>
                </a:solidFill>
                <a:uFillTx/>
                <a:latin typeface="Verdana"/>
              </a:rPr>
              <a:t>Seventh Outline Level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63480" y="178920"/>
            <a:ext cx="56484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804000" y="1052640"/>
            <a:ext cx="731880" cy="35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720" y="1566720"/>
            <a:ext cx="8450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75360" y="262080"/>
            <a:ext cx="1798920" cy="66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 u="sng">
                <a:solidFill>
                  <a:srgbClr val="666699"/>
                </a:solidFill>
                <a:uFillTx/>
                <a:latin typeface="Verdana"/>
              </a:rPr>
              <a:t>Click to edit the outline text format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lvl="1" marL="385920" indent="0" algn="ctr">
              <a:spcBef>
                <a:spcPts val="1001"/>
              </a:spcBef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70040" algn="ctr"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55600" algn="ctr"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538280" algn="ctr"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538280">
              <a:spcBef>
                <a:spcPts val="550"/>
              </a:spcBef>
              <a:buClr>
                <a:srgbClr val="000000"/>
              </a:buClr>
              <a:buFont typeface="Verdana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538280">
              <a:spcBef>
                <a:spcPts val="550"/>
              </a:spcBef>
              <a:buClr>
                <a:srgbClr val="000000"/>
              </a:buClr>
              <a:buFont typeface="Verdana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  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640" y="1700280"/>
            <a:ext cx="8136000" cy="16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33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33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AT" sz="3300" spc="-1" strike="noStrike" u="sng">
                <a:solidFill>
                  <a:srgbClr val="ffffff"/>
                </a:solidFill>
                <a:uFillTx/>
                <a:latin typeface="Verdana"/>
              </a:rPr>
              <a:t>Projektarbeit</a:t>
            </a:r>
            <a:endParaRPr b="0" lang="en-US" sz="33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77724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Verdana"/>
              </a:rPr>
              <a:t>Soziales Umfeld Jugendlic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Guntram Obwege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608720" cy="895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3480" y="1943280"/>
            <a:ext cx="536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  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640" y="1700280"/>
            <a:ext cx="8136000" cy="16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33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33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33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3357720"/>
            <a:ext cx="77724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608720" cy="895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414972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 u="sng">
                <a:solidFill>
                  <a:srgbClr val="ffffff"/>
                </a:solidFill>
                <a:uFillTx/>
                <a:latin typeface="Verdana"/>
              </a:rPr>
              <a:t>Ich danke für Ihre Aufmerksam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63480" y="178920"/>
            <a:ext cx="56484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Inhal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943280"/>
            <a:ext cx="8262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 u="sng">
                <a:solidFill>
                  <a:srgbClr val="666699"/>
                </a:solidFill>
                <a:uFillTx/>
                <a:latin typeface="Verdana"/>
              </a:rPr>
              <a:t>Vorstellung Autor und Firma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 u="sng">
                <a:solidFill>
                  <a:srgbClr val="666699"/>
                </a:solidFill>
                <a:uFillTx/>
                <a:latin typeface="Verdana"/>
              </a:rPr>
              <a:t>Problemstellung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 u="sng">
                <a:solidFill>
                  <a:srgbClr val="666699"/>
                </a:solidFill>
                <a:uFillTx/>
                <a:latin typeface="Verdana"/>
              </a:rPr>
              <a:t>Zielsetzung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 u="sng">
                <a:solidFill>
                  <a:srgbClr val="666699"/>
                </a:solidFill>
                <a:uFillTx/>
                <a:latin typeface="Verdana"/>
              </a:rPr>
              <a:t>Durchführung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 u="sng">
                <a:solidFill>
                  <a:srgbClr val="666699"/>
                </a:solidFill>
                <a:uFillTx/>
                <a:latin typeface="Verdana"/>
              </a:rPr>
              <a:t>Ergebnisse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 u="sng">
                <a:solidFill>
                  <a:srgbClr val="666699"/>
                </a:solidFill>
                <a:uFillTx/>
                <a:latin typeface="Verdana"/>
              </a:rPr>
              <a:t>Schlüsse und Konsequenzen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 u="sng">
                <a:solidFill>
                  <a:srgbClr val="666699"/>
                </a:solidFill>
                <a:uFillTx/>
                <a:latin typeface="Verdana"/>
              </a:rPr>
              <a:t>Persönlicher Gewinn, Vision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marL="287280" indent="0">
              <a:spcBef>
                <a:spcPts val="1001"/>
              </a:spcBef>
              <a:buNone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3480" y="178920"/>
            <a:ext cx="56484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Problemstellung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6960" y="1942920"/>
            <a:ext cx="8262720" cy="34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 u="sng">
                <a:solidFill>
                  <a:srgbClr val="666699"/>
                </a:solidFill>
                <a:uFillTx/>
                <a:latin typeface="Verdana"/>
              </a:rPr>
              <a:t>Schulleistungen der Lehrlinge 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 u="sng">
                <a:solidFill>
                  <a:srgbClr val="666699"/>
                </a:solidFill>
                <a:uFillTx/>
                <a:latin typeface="Verdana"/>
              </a:rPr>
              <a:t>PISA Studie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 u="sng">
                <a:solidFill>
                  <a:srgbClr val="666699"/>
                </a:solidFill>
                <a:uFillTx/>
                <a:latin typeface="Verdana"/>
              </a:rPr>
              <a:t>Wertehaltung der Generationen im Wandel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 u="sng">
                <a:solidFill>
                  <a:srgbClr val="666699"/>
                </a:solidFill>
                <a:uFillTx/>
                <a:latin typeface="Verdana"/>
              </a:rPr>
              <a:t>Erwachsenenprobleme ≠ Jugendlichenprobleme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marL="287280" indent="0">
              <a:spcBef>
                <a:spcPts val="1001"/>
              </a:spcBef>
              <a:buNone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  <p:transition spd="med"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3480" y="178920"/>
            <a:ext cx="56484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Zielsetzung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96960" y="1943280"/>
            <a:ext cx="8262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 u="sng">
                <a:solidFill>
                  <a:srgbClr val="666699"/>
                </a:solidFill>
                <a:uFillTx/>
                <a:latin typeface="Verdana"/>
              </a:rPr>
              <a:t>Steigerung der Effizienz im Lehrlingswesen durch: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lvl="1" marL="625320" indent="-239400"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Verständnis für jugendliches Verhalt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5320" indent="-239400"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Verbesserte Zusammenarbeit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7280" indent="0">
              <a:spcBef>
                <a:spcPts val="1001"/>
              </a:spcBef>
              <a:buNone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  <p:transition spd="med">
    <p:strips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3480" y="178920"/>
            <a:ext cx="56484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Method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96960" y="1943280"/>
            <a:ext cx="8262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 u="sng">
                <a:solidFill>
                  <a:srgbClr val="666699"/>
                </a:solidFill>
                <a:uFillTx/>
                <a:latin typeface="Verdana"/>
              </a:rPr>
              <a:t>Allgemeine Methode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lvl="1" marL="625320" indent="-239400"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Was möchte ich wisse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5320" indent="-239400"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Wie kann ich es erfahre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5320" indent="-239400"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Warum will ich es wisse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5320" indent="-239400"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Was tue ich mit dem Wisse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 u="sng">
                <a:solidFill>
                  <a:srgbClr val="666699"/>
                </a:solidFill>
                <a:uFillTx/>
                <a:latin typeface="Verdana"/>
              </a:rPr>
              <a:t>Empirische Untersuchung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lvl="1" marL="625320" indent="-239400"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Anstoß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5320" indent="-239400"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Sachhypothe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5320" indent="-239400"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Formulierung der Frag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3480" y="178920"/>
            <a:ext cx="56484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Durchführung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6960" y="1943280"/>
            <a:ext cx="8262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80000"/>
              </a:lnSpc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1800" spc="-1" strike="noStrike" u="sng">
                <a:solidFill>
                  <a:srgbClr val="666699"/>
                </a:solidFill>
                <a:uFillTx/>
                <a:latin typeface="Verdana"/>
              </a:rPr>
              <a:t>Präzisierung der Fragestellung</a:t>
            </a:r>
            <a:endParaRPr b="0" lang="en-US" sz="18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lvl="1" marL="625320" indent="-239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aliditä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5320" indent="-239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Reliabilitä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5320" indent="-239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Objektivitä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5320" indent="-239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Ökonom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lnSpc>
                <a:spcPct val="80000"/>
              </a:lnSpc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1800" spc="-1" strike="noStrike" u="sng">
                <a:solidFill>
                  <a:srgbClr val="666699"/>
                </a:solidFill>
                <a:uFillTx/>
                <a:latin typeface="Verdana"/>
              </a:rPr>
              <a:t>Statistische Signifikanz</a:t>
            </a:r>
            <a:endParaRPr b="0" lang="en-US" sz="18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marL="287280" indent="-287280">
              <a:lnSpc>
                <a:spcPct val="80000"/>
              </a:lnSpc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1800" spc="-1" strike="noStrike" u="sng">
                <a:solidFill>
                  <a:srgbClr val="666699"/>
                </a:solidFill>
                <a:uFillTx/>
                <a:latin typeface="Verdana"/>
              </a:rPr>
              <a:t>Praktische Relevanz</a:t>
            </a:r>
            <a:endParaRPr b="0" lang="en-US" sz="18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marL="287280" indent="-287280">
              <a:lnSpc>
                <a:spcPct val="80000"/>
              </a:lnSpc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1800" spc="-1" strike="noStrike" u="sng">
                <a:solidFill>
                  <a:srgbClr val="666699"/>
                </a:solidFill>
                <a:uFillTx/>
                <a:latin typeface="Verdana"/>
              </a:rPr>
              <a:t>Untersuchungsplanung</a:t>
            </a:r>
            <a:endParaRPr b="0" lang="en-US" sz="18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marL="287280" indent="-287280">
              <a:lnSpc>
                <a:spcPct val="80000"/>
              </a:lnSpc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1800" spc="-1" strike="noStrike" u="sng">
                <a:solidFill>
                  <a:srgbClr val="666699"/>
                </a:solidFill>
                <a:uFillTx/>
                <a:latin typeface="Verdana"/>
              </a:rPr>
              <a:t>Durchführung </a:t>
            </a:r>
            <a:endParaRPr b="0" lang="en-US" sz="18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lvl="1" marL="625320" indent="-239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03 Schülerinn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5320" indent="-239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50 Schü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5320" indent="-239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7 Lehrlin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3480" y="178920"/>
            <a:ext cx="56484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rgebniss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96960" y="1943280"/>
            <a:ext cx="8262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AT" sz="2200" spc="-1" strike="noStrike">
                <a:solidFill>
                  <a:srgbClr val="666699"/>
                </a:solidFill>
                <a:latin typeface="Verdana"/>
              </a:rPr>
              <a:t>Allgemein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AT" sz="2200" spc="-1" strike="noStrike">
                <a:solidFill>
                  <a:srgbClr val="666699"/>
                </a:solidFill>
                <a:latin typeface="Verdana"/>
              </a:rPr>
              <a:t>Exemplarisch Schulnoten</a:t>
            </a:r>
            <a:endParaRPr b="0" lang="en-US" sz="22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  <p:transition spd="med">
    <p:strips dir="r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3480" y="178920"/>
            <a:ext cx="56484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Schlüsse und Konsequenzen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43280"/>
            <a:ext cx="427968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1001"/>
              </a:spcBef>
              <a:buNone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0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marL="287280" indent="0">
              <a:spcBef>
                <a:spcPts val="1001"/>
              </a:spcBef>
              <a:buNone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0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11280" y="1943280"/>
            <a:ext cx="834840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AT" sz="2000" spc="-1" strike="noStrike" u="sng">
                <a:solidFill>
                  <a:srgbClr val="666699"/>
                </a:solidFill>
                <a:uFillTx/>
                <a:latin typeface="Verdana"/>
              </a:rPr>
              <a:t>„</a:t>
            </a:r>
            <a:r>
              <a:rPr b="0" lang="de-AT" sz="2000" spc="-1" strike="noStrike" u="sng">
                <a:solidFill>
                  <a:srgbClr val="666699"/>
                </a:solidFill>
                <a:uFillTx/>
                <a:latin typeface="Verdana"/>
              </a:rPr>
              <a:t>Solltest du schlechte Schulnoten haben, gib bitte Gründe dafür an“ </a:t>
            </a:r>
            <a:endParaRPr b="0" lang="en-US" sz="20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AT" sz="2000" spc="-1" strike="noStrike" u="sng">
                <a:solidFill>
                  <a:srgbClr val="666699"/>
                </a:solidFill>
                <a:uFillTx/>
                <a:latin typeface="Verdana"/>
              </a:rPr>
              <a:t>Für Ausbilder und Lehrer</a:t>
            </a:r>
            <a:endParaRPr b="0" lang="en-US" sz="20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marL="287280" indent="0">
              <a:spcBef>
                <a:spcPts val="1001"/>
              </a:spcBef>
              <a:buNone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0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  <p:transition spd="med">
    <p:strips dir="r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3480" y="178920"/>
            <a:ext cx="56484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Persönlicher Gewinn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AT" sz="2000" spc="-1" strike="noStrike" u="sng">
                <a:solidFill>
                  <a:srgbClr val="666699"/>
                </a:solidFill>
                <a:uFillTx/>
                <a:latin typeface="Verdana"/>
              </a:rPr>
              <a:t>Methodik der Umfrage</a:t>
            </a:r>
            <a:endParaRPr b="0" lang="en-US" sz="20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AT" sz="2000" spc="-1" strike="noStrike" u="sng">
                <a:solidFill>
                  <a:srgbClr val="666699"/>
                </a:solidFill>
                <a:uFillTx/>
                <a:latin typeface="Verdana"/>
              </a:rPr>
              <a:t>Was denken meine SchülerInnen und Lehrlinge</a:t>
            </a:r>
            <a:endParaRPr b="0" lang="en-US" sz="20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AT" sz="2000" spc="-1" strike="noStrike" u="sng">
                <a:solidFill>
                  <a:srgbClr val="666699"/>
                </a:solidFill>
                <a:uFillTx/>
                <a:latin typeface="Verdana"/>
              </a:rPr>
              <a:t>QIS</a:t>
            </a:r>
            <a:endParaRPr b="0" lang="en-US" sz="20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marL="287280" indent="-287280">
              <a:spcBef>
                <a:spcPts val="1001"/>
              </a:spcBef>
              <a:buClr>
                <a:srgbClr val="666699"/>
              </a:buClr>
              <a:buFont typeface="Verdana"/>
              <a:buChar char="_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AT" sz="2000" spc="-1" strike="noStrike" u="sng">
                <a:solidFill>
                  <a:srgbClr val="666699"/>
                </a:solidFill>
                <a:uFillTx/>
                <a:latin typeface="Verdana"/>
              </a:rPr>
              <a:t>Vision</a:t>
            </a:r>
            <a:endParaRPr b="0" lang="en-US" sz="2000" spc="-1" strike="noStrike" u="sng">
              <a:solidFill>
                <a:srgbClr val="666699"/>
              </a:solidFill>
              <a:uFillTx/>
              <a:latin typeface="Verdana"/>
            </a:endParaRPr>
          </a:p>
          <a:p>
            <a:pPr marL="287280" indent="0">
              <a:spcBef>
                <a:spcPts val="1001"/>
              </a:spcBef>
              <a:buNone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2000" spc="-1" strike="noStrike" u="sng">
              <a:solidFill>
                <a:srgbClr val="666699"/>
              </a:solidFill>
              <a:uFillTx/>
              <a:latin typeface="Verdana"/>
            </a:endParaRPr>
          </a:p>
        </p:txBody>
      </p:sp>
    </p:spTree>
  </p:cSld>
  <p:transition spd="med">
    <p:strips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13:22:13Z</dcterms:created>
  <dc:creator>jcollini</dc:creator>
  <dc:description/>
  <dc:language>en-US</dc:language>
  <cp:lastModifiedBy>Guntram Obwegeser</cp:lastModifiedBy>
  <cp:lastPrinted>2000-04-06T12:59:21Z</cp:lastPrinted>
  <dcterms:modified xsi:type="dcterms:W3CDTF">2005-06-05T20:57:40Z</dcterms:modified>
  <cp:revision>88</cp:revision>
  <dc:subject/>
  <dc:title>Umsetzung der OTAG-Strategie  Neue Organisations-Struktur</dc:title>
</cp:coreProperties>
</file>