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63DA-787D-40C3-A3E8-7AB9772EE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81276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77F4-B140-4859-A436-D5509E822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1276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381276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710CA-1ECC-4266-A69C-A70BE59B5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8960" y="106632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8800" y="106632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81276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8960" y="381276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8800" y="381276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6C21F-EAA0-4B9E-9EDA-6F76D32F6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6262B-CDCD-4445-9CF2-37EA51C566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62512-A76C-4B68-892D-E29854155B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B09D0-6B77-4B54-B30B-4C230A33D2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06632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21691-C888-4EE4-8227-95DBC6B014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99D41-3D01-4EC1-B420-9C518B32A7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633708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C32F6-261E-4CC6-9151-649C3DB42E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06632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81276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340FF-9E95-4250-9B62-7B75EC6E13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3F54-D24B-41BD-97AE-CA80CB866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81276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651C0-F88C-44A2-8B74-7464BC6467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81276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6B9E2-5204-49C4-AEA3-FB368C311D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81276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47EFE-2676-4660-B20A-B41719882B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81276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81276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F6F64-A3DB-4FA8-9F99-5607B3FBEF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06632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06632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81276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81276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81276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43B23-9B8E-49CE-ADD2-26D07004D4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15ADDE-F959-4B5D-A2FF-0CB924B5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1F02FC-E0F1-41E2-987D-ED9BF752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FEC0A6-5B1B-48F4-8B1A-23BD2D5E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06632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386F43-B417-4E49-96AF-8B0B8FCD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026B1A-1843-42CF-AB08-8B09A2D4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007A8-60AE-4A2B-BBF2-D698E65A03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633708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42902E-5505-4F59-A296-30A76F3D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06632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81276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F04CBD-6BE2-406E-B757-CB2E0050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0280" y="381276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962A65-C288-4557-8F92-238944D4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81276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043F07-D3F2-4705-8DFB-49530C1A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09480" y="381276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A9750D-8390-42DB-891E-492BBE1C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381276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0280" y="381276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1B31DC-9C95-4B2D-BFCF-CF049111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88960" y="106632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68800" y="106632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09480" y="381276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88960" y="381276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68800" y="381276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4B93A8-2F17-4778-BEB8-4AF9F1F7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06632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7CFF9-AAAF-4B4E-B782-4A7294063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94A7-3F44-4B4B-95D1-E2A45A4B2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633708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C2611-327F-40F5-80D2-C30101ECE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06632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81276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5730-09D6-4127-B122-E5B15D1CD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381276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CA51-6B00-4545-BC5E-C6218D951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171720"/>
            <a:ext cx="6337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06632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81276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748F-A1C7-4056-B239-A2A8B52F2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33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282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29400" y="193680"/>
            <a:ext cx="1981080" cy="6602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609120" y="6552720"/>
            <a:ext cx="5410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ffffff"/>
                </a:solidFill>
                <a:latin typeface="Arial"/>
              </a:rPr>
              <a:t>Workshop - Höflich geht‘s besser !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6294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lie </a:t>
            </a:r>
            <a:fld id="{064B3564-70C8-4CF8-9463-E5464ABBDDD6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8459640" y="981000"/>
            <a:ext cx="217800" cy="468360"/>
          </a:xfrm>
          <a:custGeom>
            <a:avLst/>
            <a:gdLst>
              <a:gd name="textAreaLeft" fmla="*/ 14040 w 217800"/>
              <a:gd name="textAreaRight" fmla="*/ 203760 w 217800"/>
              <a:gd name="textAreaTop" fmla="*/ 14040 h 468360"/>
              <a:gd name="textAreaBottom" fmla="*/ 454320 h 468360"/>
            </a:gdLst>
            <a:ahLst/>
            <a:rect l="textAreaLeft" t="textAreaTop" r="textAreaRight" b="textAreaBottom"/>
            <a:pathLst>
              <a:path w="21600" h="46408">
                <a:moveTo>
                  <a:pt x="0" y="0"/>
                </a:moveTo>
                <a:lnTo>
                  <a:pt x="21600" y="0"/>
                </a:lnTo>
                <a:lnTo>
                  <a:pt x="21600" y="46408"/>
                </a:lnTo>
                <a:lnTo>
                  <a:pt x="0" y="46408"/>
                </a:lnTo>
                <a:close/>
              </a:path>
              <a:path fill="lightenLess" w="21600" h="464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6408">
                <a:moveTo>
                  <a:pt x="21600" y="0"/>
                </a:moveTo>
                <a:lnTo>
                  <a:pt x="21600" y="46408"/>
                </a:lnTo>
                <a:lnTo>
                  <a:pt x="20200" y="45008"/>
                </a:lnTo>
                <a:lnTo>
                  <a:pt x="20200" y="1400"/>
                </a:lnTo>
                <a:close/>
              </a:path>
              <a:path fill="darkenLess" w="21600" h="46408">
                <a:moveTo>
                  <a:pt x="21600" y="46408"/>
                </a:moveTo>
                <a:lnTo>
                  <a:pt x="0" y="46408"/>
                </a:lnTo>
                <a:lnTo>
                  <a:pt x="1400" y="45008"/>
                </a:lnTo>
                <a:lnTo>
                  <a:pt x="20200" y="45008"/>
                </a:lnTo>
                <a:close/>
              </a:path>
              <a:path fill="lighten" w="21600" h="46408">
                <a:moveTo>
                  <a:pt x="0" y="46408"/>
                </a:moveTo>
                <a:lnTo>
                  <a:pt x="0" y="0"/>
                </a:lnTo>
                <a:lnTo>
                  <a:pt x="1400" y="1400"/>
                </a:lnTo>
                <a:lnTo>
                  <a:pt x="1400" y="45008"/>
                </a:lnTo>
                <a:close/>
              </a:path>
              <a:path fill="darken" w="21600" h="46408">
                <a:moveTo>
                  <a:pt x="3794" y="23204"/>
                </a:moveTo>
                <a:lnTo>
                  <a:pt x="17806" y="16197"/>
                </a:lnTo>
                <a:lnTo>
                  <a:pt x="17806" y="3021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748720" y="981000"/>
            <a:ext cx="216000" cy="46692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466920"/>
              <a:gd name="textAreaBottom" fmla="*/ 453240 h 466920"/>
            </a:gdLst>
            <a:ahLst/>
            <a:rect l="textAreaLeft" t="textAreaTop" r="textAreaRight" b="textAreaBottom"/>
            <a:pathLst>
              <a:path w="21600" h="46650">
                <a:moveTo>
                  <a:pt x="0" y="0"/>
                </a:moveTo>
                <a:lnTo>
                  <a:pt x="21600" y="0"/>
                </a:lnTo>
                <a:lnTo>
                  <a:pt x="21600" y="46650"/>
                </a:lnTo>
                <a:lnTo>
                  <a:pt x="0" y="46650"/>
                </a:lnTo>
                <a:close/>
              </a:path>
              <a:path fill="lightenLess" w="21600" h="466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6650">
                <a:moveTo>
                  <a:pt x="21600" y="0"/>
                </a:moveTo>
                <a:lnTo>
                  <a:pt x="21600" y="46650"/>
                </a:lnTo>
                <a:lnTo>
                  <a:pt x="20200" y="45250"/>
                </a:lnTo>
                <a:lnTo>
                  <a:pt x="20200" y="1400"/>
                </a:lnTo>
                <a:close/>
              </a:path>
              <a:path fill="darkenLess" w="21600" h="46650">
                <a:moveTo>
                  <a:pt x="21600" y="46650"/>
                </a:moveTo>
                <a:lnTo>
                  <a:pt x="0" y="46650"/>
                </a:lnTo>
                <a:lnTo>
                  <a:pt x="1400" y="45250"/>
                </a:lnTo>
                <a:lnTo>
                  <a:pt x="20200" y="45250"/>
                </a:lnTo>
                <a:close/>
              </a:path>
              <a:path fill="lighten" w="21600" h="46650">
                <a:moveTo>
                  <a:pt x="0" y="46650"/>
                </a:moveTo>
                <a:lnTo>
                  <a:pt x="0" y="0"/>
                </a:lnTo>
                <a:lnTo>
                  <a:pt x="1400" y="1400"/>
                </a:lnTo>
                <a:lnTo>
                  <a:pt x="1400" y="45250"/>
                </a:lnTo>
                <a:close/>
              </a:path>
              <a:path fill="darken" w="21600" h="46650">
                <a:moveTo>
                  <a:pt x="3794" y="16319"/>
                </a:moveTo>
                <a:lnTo>
                  <a:pt x="17806" y="23325"/>
                </a:lnTo>
                <a:lnTo>
                  <a:pt x="3794" y="3033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91440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09120" y="6552720"/>
            <a:ext cx="5410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6294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lie </a:t>
            </a:r>
            <a:fld id="{FC4950C5-2E33-4768-8CD6-D478BC9DFAB7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629400" y="193680"/>
            <a:ext cx="1981080" cy="660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BC63-4DDD-411D-9274-A3821C9794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26920" y="5516640"/>
            <a:ext cx="453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66"/>
                </a:solidFill>
                <a:latin typeface="Arial"/>
              </a:rPr>
              <a:t>„</a:t>
            </a:r>
            <a:r>
              <a:rPr b="1" lang="de-AT" sz="3200" spc="-1" strike="noStrike">
                <a:solidFill>
                  <a:srgbClr val="ffff66"/>
                </a:solidFill>
                <a:latin typeface="Arial"/>
              </a:rPr>
              <a:t>Höflich geht‘s besser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2060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ffff66"/>
                </a:solidFill>
                <a:latin typeface="Arial"/>
              </a:rPr>
              <a:t>Herzl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ffff66"/>
                </a:solidFill>
                <a:latin typeface="Arial"/>
              </a:rPr>
              <a:t>willkomme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35600" y="486900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Workshop für VKW-Lehrli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5916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337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Telekommunikation</a:t>
            </a:r>
            <a:br>
              <a:rPr sz="2800"/>
            </a:br>
            <a:r>
              <a:rPr b="1" lang="de-AT" sz="2000" spc="-1" strike="noStrike">
                <a:solidFill>
                  <a:srgbClr val="ef2829"/>
                </a:solidFill>
                <a:latin typeface="Arial"/>
              </a:rPr>
              <a:t>(Einzelarbeit)</a:t>
            </a:r>
            <a:endParaRPr b="1" lang="en-US" sz="20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6048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ufgabenstellung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ffffff"/>
                </a:solidFill>
                <a:latin typeface="Arial"/>
              </a:rPr>
              <a:t>Verfasse ein Email an Hr. Klimmer Wolfga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ffffff"/>
                </a:solidFill>
                <a:latin typeface="Arial"/>
              </a:rPr>
              <a:t>VKW-Bauabteilung</a:t>
            </a:r>
            <a:r>
              <a:rPr b="0" lang="de-AT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ffffff"/>
                </a:solidFill>
                <a:latin typeface="Arial"/>
              </a:rPr>
              <a:t>Schadensmeldung - Lehrwerkstättenfenster – Schließmechanismus ist defekt – event. Folgeschäden – Windstöße öffnen das Fenster – Wassersch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ffffff"/>
                </a:solidFill>
                <a:latin typeface="Arial"/>
              </a:rPr>
              <a:t>Email: klimmer.wolfgang@vkw.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96000" y="2421000"/>
            <a:ext cx="3138480" cy="28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3B0C-B286-46C3-9F30-A0398B78D495}" type="slidenum">
              <a:t>10</a:t>
            </a:fld>
          </a:p>
        </p:txBody>
      </p:sp>
    </p:spTree>
  </p:cSld>
  <p:transition spd="med">
    <p:wipe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33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Telekommunikation</a:t>
            </a:r>
            <a:br>
              <a:rPr sz="2800"/>
            </a:br>
            <a:r>
              <a:rPr b="1" lang="de-AT" sz="2000" spc="-1" strike="noStrike">
                <a:solidFill>
                  <a:srgbClr val="ef2829"/>
                </a:solidFill>
                <a:latin typeface="Arial"/>
              </a:rPr>
              <a:t>(Besichtigung - Callcenter)</a:t>
            </a:r>
            <a:endParaRPr b="1" lang="en-US" sz="2000" spc="-1" strike="noStrike">
              <a:solidFill>
                <a:srgbClr val="ef2829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480" y="1095480"/>
            <a:ext cx="7925040" cy="519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23D7-E970-47DB-9F83-3BBFB95C6ED4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33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Das gepflegte Äußere</a:t>
            </a: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388620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Damit der erste Eindruck passt 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Kleidung dem Anlass entsprechen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Kriterien für die Auswahl der Kleid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aarpfle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Pflege der Hände und Fingernäg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Die Ras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Parfüm und Rasierwas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867280" y="1557360"/>
            <a:ext cx="2951280" cy="42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B819-E6E3-41CA-83D8-F49BC7AAFF1D}" type="slidenum">
              <a:t>12</a:t>
            </a:fld>
          </a:p>
        </p:txBody>
      </p:sp>
    </p:spTree>
  </p:cSld>
  <p:transition spd="med"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33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Sicheres Auftreten im Beruf</a:t>
            </a: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53276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Arbeitsantritt – Neuer Jo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Betriebskli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Mobb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Firmenfeste und Betriebsausflu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Der beste Umgang mit Vorgesetz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32560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6FCB-52F3-4C0C-B8F9-BD7DF894F337}" type="slidenum">
              <a:t>13</a:t>
            </a:fld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childTnLst>
                                    <p:set>
                                      <p:cBhvr>
                                        <p:cTn id="249" dur="1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337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Sicheres Auftreten im Beruf</a:t>
            </a:r>
            <a:br>
              <a:rPr sz="2800"/>
            </a:br>
            <a:r>
              <a:rPr b="1" lang="de-AT" sz="2000" spc="-1" strike="noStrike">
                <a:solidFill>
                  <a:srgbClr val="ef2829"/>
                </a:solidFill>
                <a:latin typeface="Arial"/>
              </a:rPr>
              <a:t>(Gruppenarbeit - Diskussion)</a:t>
            </a:r>
            <a:endParaRPr b="1" lang="en-US" sz="20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Arial"/>
              </a:rPr>
              <a:t>Betriebsklim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Gründe für Ärger am Arbeitsplatz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ästiger Schweiß-, Parfüm-, Essensgeruch und Zigarettenrau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uf- und Abräumarbeiten für die sich niemand zuständig fühl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ollegen, die ihr Telefon ununterbrochen läuten lassen und auch den Apparat des Büronachbarn nie abnehm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tändige Privatgespräch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Ewiges Zuspätkommen einiger Kolleg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chreibtische, die aussehen, als hätte eine Bombe eingeschlag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ollegen, die sich nicht an die allgemein gültigen Pausen halt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adfahrer“, die nach oben buckeln und nach unten tret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Übereifrige Kollegen, die aus Ehrgeiz niemals eine Pause mach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rbeitskollegen,  die nicht immer erwünschte Informationen zum Vorgesetzten weitergeb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24360" y="3043080"/>
            <a:ext cx="3419640" cy="228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F4F2-5C66-4A58-AFD6-479350D0C6EF}" type="slidenum">
              <a:t>14</a:t>
            </a:fld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childTnLst>
                                    <p:set>
                                      <p:cBhvr>
                                        <p:cTn id="271" dur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337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Sicheres Auftreten im Beruf</a:t>
            </a:r>
            <a:br>
              <a:rPr sz="2800"/>
            </a:br>
            <a:r>
              <a:rPr b="1" lang="de-AT" sz="2000" spc="-1" strike="noStrike">
                <a:solidFill>
                  <a:srgbClr val="ef2829"/>
                </a:solidFill>
                <a:latin typeface="Arial"/>
              </a:rPr>
              <a:t>(Gruppenarbeit - Diskussion)</a:t>
            </a:r>
            <a:endParaRPr b="1" lang="en-US" sz="20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518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Betriebskli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Arial"/>
              </a:rPr>
              <a:t>Tips für gutes Klima am Arbeitsplatz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Privatsphäre respekti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Privaten Ärger zuhause las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Toleranz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Sich kollegialen Geselligkeiten anschließ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Privatleben und Job tren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ikle Themen nicht diskuti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(z.B. Politi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643280" cy="19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443FC-1362-462D-BE02-A9F7AD67FC87}" type="slidenum">
              <a:t>15</a:t>
            </a:fld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childTnLst>
                                    <p:set>
                                      <p:cBhvr>
                                        <p:cTn id="303" dur="1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33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ef2829"/>
                </a:solidFill>
                <a:latin typeface="Arial"/>
              </a:rPr>
              <a:t>Verhalten - Schule und Abschlussprüf.</a:t>
            </a:r>
            <a:endParaRPr b="1" lang="en-US" sz="26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590544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ufssch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elregeln für Berufsschü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hrabschlussprüfun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üf. Kommission – Wie hinterlasse ich einen guten Eindru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012000" y="2060640"/>
            <a:ext cx="3132000" cy="30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0C53A-2CA8-4C13-B1BD-7EA1F489C071}" type="slidenum">
              <a:t>16</a:t>
            </a:fld>
          </a:p>
        </p:txBody>
      </p:sp>
    </p:spTree>
  </p:cSld>
  <p:transition spd="med">
    <p:wipe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55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ef2829"/>
                </a:solidFill>
                <a:latin typeface="Arial"/>
              </a:rPr>
              <a:t>Verhalten – Schule u. Abschlussprüf.</a:t>
            </a:r>
            <a:br>
              <a:rPr sz="2600"/>
            </a:br>
            <a:r>
              <a:rPr b="1" lang="de-AT" sz="2000" spc="-1" strike="noStrike">
                <a:solidFill>
                  <a:srgbClr val="ef2829"/>
                </a:solidFill>
                <a:latin typeface="Arial"/>
              </a:rPr>
              <a:t>(Rollenspiel - Prüfung)</a:t>
            </a:r>
            <a:endParaRPr b="1" lang="en-US" sz="20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59054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Lehrabschlußprüfun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achbildung einer Prüfungssit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(Lehrbschlussprüfung – Fachgesprä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580000" y="2635200"/>
            <a:ext cx="3384720" cy="26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662E-4F52-4F72-9809-2E13B2C20608}" type="slidenum">
              <a:t>17</a:t>
            </a:fld>
          </a:p>
        </p:txBody>
      </p:sp>
    </p:spTree>
  </p:cSld>
  <p:transition spd="med">
    <p:wipe dir="r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33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Private u. öffentliche Verkehrsmittel</a:t>
            </a: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6121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Rücksichtnahme – Nummer 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Mein Beitrag als Fahr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Mit dem Fahrrad unterwe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Als Fußgänger unterwe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Auf der Rolltrep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Mit Bahn und Bus unterwe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Reisen per Flugzeu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580000" y="2924280"/>
            <a:ext cx="3241800" cy="201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81BBB-03F2-4FC1-BD04-86EF35D6A1C6}" type="slidenum">
              <a:t>18</a:t>
            </a:fld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childTnLst>
                                    <p:set>
                                      <p:cBhvr>
                                        <p:cTn id="374" dur="1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33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Rauchen</a:t>
            </a: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2852280"/>
            <a:ext cx="6121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s sollte beachtet werd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 wird nicht gerauc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Bild8" descr=""/>
          <p:cNvPicPr/>
          <p:nvPr/>
        </p:nvPicPr>
        <p:blipFill>
          <a:blip r:embed="rId1"/>
          <a:stretch/>
        </p:blipFill>
        <p:spPr>
          <a:xfrm>
            <a:off x="5580000" y="1844640"/>
            <a:ext cx="3252960" cy="36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39E3-F9DA-4895-B788-E354352678FD}" type="slidenum">
              <a:t>19</a:t>
            </a:fld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childTnLst>
                                    <p:set>
                                      <p:cBhvr>
                                        <p:cTn id="404" dur="1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2040" y="189000"/>
            <a:ext cx="6058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Workshop - Inhalte</a:t>
            </a: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851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Miteinander leb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Rund um‘s grüß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Telekommunik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Das gepflegte Äuß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Sicheres Auftreten im Beru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Verhalten – Schule und Abschlussprüf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Private und öffentliche Verkehrsmitt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Rauch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Du oder doch per Sie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Souverän bei Tis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09C0-4347-4D99-B4CE-11206421DF52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337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Rauchen</a:t>
            </a:r>
            <a:br>
              <a:rPr sz="2800"/>
            </a:b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(</a:t>
            </a:r>
            <a:r>
              <a:rPr b="1" lang="de-AT" sz="2000" spc="-1" strike="noStrike">
                <a:solidFill>
                  <a:srgbClr val="ef2829"/>
                </a:solidFill>
                <a:latin typeface="Arial"/>
              </a:rPr>
              <a:t>Gruppenarbeit)</a:t>
            </a:r>
            <a:endParaRPr b="1" lang="en-US" sz="20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5905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Arial"/>
              </a:rPr>
              <a:t>Wo wird nicht gerauch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n beschilderten rauchfreien Zon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n öffentlichen Verkehrsmitteln außerhalb der Raucherzon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n brandgefährdeten Stellen (Tankstellen, bei Trockenheit in der Natur,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m Wartezimmer einer Arztpraxi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m Krankenhaus außerhalb der Raucherzon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m Kinderzim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m Fahrstuh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n einem fremden Au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n der Wohnung von Nichtrauche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m Arbeitsplatz, wenn Nichtrauchen abgesprochen wur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n Großraumbü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n  Verwaltungsgebäuden und Behör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n Parkhäuse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irchen, Museen und Hallenbäde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940360" y="2060640"/>
            <a:ext cx="3024360" cy="290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AFD14-CDA4-49CD-8CDA-B3C9B40E2D9E}" type="slidenum">
              <a:t>20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childTnLst>
                                    <p:set>
                                      <p:cBhvr>
                                        <p:cTn id="414" dur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/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/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/>
                                        <p:tgtEl>
                                          <p:spTgt spid="1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/>
                                        <p:tgtEl>
                                          <p:spTgt spid="1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33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Du oder doch per Sie ?</a:t>
            </a: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61214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s ist übli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r bietet das „Du“ 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höfliche Verhaltensweis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940360" y="2349360"/>
            <a:ext cx="3024360" cy="299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2E32-20FB-492D-99DC-7F2D78D99BCF}" type="slidenum">
              <a:t>21</a:t>
            </a:fld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childTnLst>
                                    <p:set>
                                      <p:cBhvr>
                                        <p:cTn id="450" dur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337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Du oder doch per Sie ?</a:t>
            </a:r>
            <a:br>
              <a:rPr sz="2800"/>
            </a:br>
            <a:r>
              <a:rPr b="1" lang="de-AT" sz="2000" spc="-1" strike="noStrike">
                <a:solidFill>
                  <a:srgbClr val="ef2829"/>
                </a:solidFill>
                <a:latin typeface="Arial"/>
              </a:rPr>
              <a:t>(Gruppenarbeit)</a:t>
            </a:r>
            <a:endParaRPr b="1" lang="en-US" sz="20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2349360"/>
            <a:ext cx="5905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Wer bietet das „Du“ an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er Ältere dem Jüng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er Ranghöhere dem Rangnied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rüher, die Dame dem Her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eutzutage auch der Herr der Dame (Arbeitskollegin, gut Bekannte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302256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4B465-79F4-44D1-8DED-6A94864F43C6}" type="slidenum">
              <a:t>22</a:t>
            </a:fld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33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Souverän bei Tisch</a:t>
            </a: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6121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te Manieren im Restaur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r Weg bis zum Tis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r hübsch gedeckte Tis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s passende Geträ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lche Speise – wie esse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s Know-how bei Tis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16760" y="1989000"/>
            <a:ext cx="2922480" cy="34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5DBF-3DEA-45F4-B47B-696A593C12DF}" type="slidenum">
              <a:t>23</a:t>
            </a:fld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childTnLst>
                                    <p:set>
                                      <p:cBhvr>
                                        <p:cTn id="486" dur="1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337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Souverän bei Tisch</a:t>
            </a:r>
            <a:br>
              <a:rPr sz="2800"/>
            </a:br>
            <a:r>
              <a:rPr b="1" lang="de-AT" sz="2000" spc="-1" strike="noStrike">
                <a:solidFill>
                  <a:srgbClr val="ef2829"/>
                </a:solidFill>
                <a:latin typeface="Arial"/>
              </a:rPr>
              <a:t>(Besuch beim Chefkoch)</a:t>
            </a:r>
            <a:endParaRPr b="1" lang="en-US" sz="20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5905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Der hübsch gedeckte Tisch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as „kleine Gedeck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Das „große Gedeck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003640" y="2655720"/>
            <a:ext cx="3934080" cy="340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0287-46F0-45D9-9D70-65E5680B48FC}" type="slidenum">
              <a:t>24</a:t>
            </a:fld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childTnLst>
                                    <p:set>
                                      <p:cBhvr>
                                        <p:cTn id="512" dur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33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Miteinander</a:t>
            </a:r>
            <a:r>
              <a:rPr b="1" lang="de-AT" sz="2400" spc="-1" strike="noStrike">
                <a:solidFill>
                  <a:srgbClr val="ef2829"/>
                </a:solidFill>
                <a:latin typeface="Arial"/>
              </a:rPr>
              <a:t> </a:t>
            </a: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leben</a:t>
            </a: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2637000"/>
            <a:ext cx="5257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Was versteht man unter „Takt“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Grenzen der Rücksichtnah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Die Entschuldig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Die höfliche Ablehn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3527280" cy="31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63D6-AD19-425B-931F-91410E71D7DC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childTnLst>
                                    <p:set>
                                      <p:cBhvr>
                                        <p:cTn id="6" dur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33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Rund um‘s Grüßen</a:t>
            </a: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5905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Wer grüßt wen 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Wo grüßt man 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Was sollte man beachte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Begrüßung – internationale Regel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Wangen – Küssch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Vorste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940360" y="2041560"/>
            <a:ext cx="302436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2111-EF25-45FA-8E58-979F08634E41}" type="slidenum">
              <a:t>4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childTnLst>
                                    <p:set>
                                      <p:cBhvr>
                                        <p:cTn id="24" dur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337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Rund um‘s Grüßen</a:t>
            </a:r>
            <a:br>
              <a:rPr sz="2800"/>
            </a:br>
            <a:r>
              <a:rPr b="1" lang="de-AT" sz="2000" spc="-1" strike="noStrike">
                <a:solidFill>
                  <a:srgbClr val="ef2829"/>
                </a:solidFill>
                <a:latin typeface="Arial"/>
              </a:rPr>
              <a:t>(Gruppenarbeit)</a:t>
            </a:r>
            <a:endParaRPr b="1" lang="en-US" sz="20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590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Wer grüßt wen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Wer einen Raum betritt (dienstlich, privat,…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Wer als Einzelner auf eine Gruppe zukomm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us Höflichkeit und Takt sollte man sich nicht weigern einen Vorgesetzten als Erstes zu begrüß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Ältere Menschen legen teilweise noch Wert darauf, dass sie als Erstes gegrüßt wer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722680" cy="396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D5BFE-71DC-49B0-9925-0190D8557E08}" type="slidenum">
              <a:t>5</a:t>
            </a:fld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childTnLst>
                                    <p:set>
                                      <p:cBhvr>
                                        <p:cTn id="50" dur="1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337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Rund um‘s Grüßen</a:t>
            </a:r>
            <a:br>
              <a:rPr sz="2800"/>
            </a:br>
            <a:r>
              <a:rPr b="1" lang="de-AT" sz="2000" spc="-1" strike="noStrike">
                <a:solidFill>
                  <a:srgbClr val="ef2829"/>
                </a:solidFill>
                <a:latin typeface="Arial"/>
              </a:rPr>
              <a:t>(Rollenspiel)</a:t>
            </a:r>
            <a:endParaRPr b="1" lang="en-US" sz="20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Vorstellen 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er Herr (Name) wird vor der Dame genan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Jüngere Person wird der Älteren vorgestel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igene Vorstellung: (freundlich und lächel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uten Tag, ich heiße Vorname / Nachname“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der „Guten Tag, mein Name ist Vorname / Nachnamen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ntwort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ch freue mich, Sie (endlich) kennen zu lernen“ o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ie schön, dass wir uns treffen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illschweigende Erlaubnis zum Duz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allo, ich bin der ………….“ (wenn nur der Vorname genannt wir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84720" y="1844640"/>
            <a:ext cx="2752920" cy="38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037D-50AE-4026-B970-F6CB38901DC5}" type="slidenum">
              <a:t>6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childTnLst>
                                    <p:set>
                                      <p:cBhvr>
                                        <p:cTn id="72" dur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33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Telekommunikation</a:t>
            </a:r>
            <a:endParaRPr b="1" lang="en-US" sz="28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3886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Telefon abneh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Kundenfreundliches Weitervermittel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Umgang mit dem Han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Tabuzonen für Hand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Absolutes Handyverbo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3822480" cy="39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146A-2A40-45D8-A624-E43693AA5BFF}" type="slidenum">
              <a:t>7</a:t>
            </a:fld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childTnLst>
                                    <p:set>
                                      <p:cBhvr>
                                        <p:cTn id="108" dur="1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337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Telekommunikation</a:t>
            </a:r>
            <a:br>
              <a:rPr sz="2800"/>
            </a:br>
            <a:r>
              <a:rPr b="1" lang="de-AT" sz="2000" spc="-1" strike="noStrike">
                <a:solidFill>
                  <a:srgbClr val="ef2829"/>
                </a:solidFill>
                <a:latin typeface="Arial"/>
              </a:rPr>
              <a:t>(Rollenspiel)</a:t>
            </a:r>
            <a:endParaRPr b="1" lang="en-US" sz="20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5905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Telefon abneh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AT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17816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CA73-2F1D-406A-BDDB-075FFCBA983A}" type="slidenum">
              <a:t>8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childTnLst>
                                    <p:set>
                                      <p:cBhvr>
                                        <p:cTn id="134" dur="1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337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ef2829"/>
                </a:solidFill>
                <a:latin typeface="Arial"/>
              </a:rPr>
              <a:t>Telekommunikation</a:t>
            </a:r>
            <a:br>
              <a:rPr sz="2800"/>
            </a:br>
            <a:r>
              <a:rPr b="1" lang="de-AT" sz="2000" spc="-1" strike="noStrike">
                <a:solidFill>
                  <a:srgbClr val="ef2829"/>
                </a:solidFill>
                <a:latin typeface="Arial"/>
              </a:rPr>
              <a:t>(Rollenspiel)</a:t>
            </a:r>
            <a:endParaRPr b="1" lang="en-US" sz="2000" spc="-1" strike="noStrike">
              <a:solidFill>
                <a:srgbClr val="ef282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612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f2829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Kundenfreundliches Weitervermittel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n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n die richtige Ste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inweis auf den Namen der nächsten Per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ntschuldigen, falls eine Weitervermittlung nicht geklappt hat oder falsch w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eine falschen oder unvollständigen Auskünfte, wenn jemand nicht erreichbar i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einbarte Rückruftermine unbedingt einhal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nklopfen“ nicht einschal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icht nur mit „Ja“ und „Hallo“ meld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f2829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lsch verbunden? Entschuldigen Sie sich höflich für die versehentliche Störu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56360" y="2349360"/>
            <a:ext cx="2817720" cy="35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72DB-E0EF-487E-A857-ADD8E0B3677F}" type="slidenum">
              <a:t>9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childTnLst>
                                    <p:set>
                                      <p:cBhvr>
                                        <p:cTn id="144" dur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08:22:37Z</dcterms:created>
  <dc:creator>FWI</dc:creator>
  <dc:description/>
  <dc:language>en-US</dc:language>
  <cp:lastModifiedBy>Karl Wilhelm Fritsche</cp:lastModifiedBy>
  <dcterms:modified xsi:type="dcterms:W3CDTF">2004-04-14T12:51:27Z</dcterms:modified>
  <cp:revision>94</cp:revision>
  <dc:subject/>
  <dc:title>Workshop - Höflich geht's besser </dc:title>
</cp:coreProperties>
</file>